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16ED-3C05-442A-B337-BD954288B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AE59-B7D5-46C7-94F2-2D857E01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2CC9-92FE-4142-9B63-2FC0CE690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DE1C-DBD8-45E9-A0A3-4860D337D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1F09-58FF-42CE-AC59-34E9CF588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A70C-5F2A-4458-B918-C15E4F7B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5811-91B5-4FE1-8B14-8E03E23D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C571-B510-411A-A2EE-F98E59D6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F971-A691-4806-AB12-AEC2411A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790A-8C7B-4018-8361-F46869C5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24CF-D58D-4001-9C13-1973A92C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42DD-AF89-43D3-BAB1-4C44EF4C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692F-E12E-4DE7-A09F-9B0DA05C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432C-5508-4B6A-992F-D79B2EE0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8680-5702-4CF4-92F6-0566112C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C10D9-B8D6-44AC-8965-9DC61DAC0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3F47-932E-4B47-918C-282454C4E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8E23-4140-4986-9DED-E78AC75F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8F90-8D38-4310-8854-48A3073D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F184-94D8-45F4-BE5B-62A81567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6135-E8CA-4C84-BA1B-9B6214E7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C683-DE3F-4E9B-BF30-2D58483E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A00E-620A-4CDE-AD2D-DB0ECE7C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0C9F-D8B9-4034-A195-6C1317A4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56A1-01C6-4042-AB49-5BA53165BCC5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A5C6-4AED-4041-A10C-DBFD289F92B1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Creación de intros 4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orge “slack” Gorb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Bernat “shash” Muño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Crear la ventana usando una clase ya existent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la clase “EDIT” que ya está registra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 usar el parámetro de la insta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hWnd = CreateWindow("EDIT","EDIT"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S_POPUP|WS_VISIBLE,0,0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idth,height,0,0,0,0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Generar todo el sonido durante el loa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emos sintetizador o módulo, podemos pregenerar toda la o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es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oading muy larg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sumo masivo de memo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necesitamos usar un thr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Toda la reproduccion de audio se reduce a una llamada a PlaySound(..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Bucle principa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mo no usamos una clase, no tenemos el WndProc (..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emos mensaj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n bucle principal seri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while (!GetAsyncKeyState(VK_ESCAPE)) // Salimos con ES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RenderIntro 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Compresor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23640" y="234900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lo vale la pena usar Crinkl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gramado pensando en 4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re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atibil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uy lento para 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Usa muchisima memoria al des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ecesidad de aprender como compr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 quitar las librerías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fltused si usamos la FP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fltused = 1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WinMain cambia por WinMainCRTStart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_declspec(noreturn) void WinMainCRTStartup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nuestro propio ft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pciones de compil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fastcall como formato de función estandar (No siempre comprime mejo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código con optimización por Velocidad o Comple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optimizaciones glob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n la generación de código, deshabilitar “Comprobación de seguridad de buffer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s 4k en Linu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similares a l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ir el número de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mports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al mínimo (incluyendo la lib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cribir código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compressor-friend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Gzip-dropp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rucos específ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unciones built-in (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ntrinsic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arga de libs dinámicas “a mano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strip (optimización de cabeceras ELF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ib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artfiles: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limina el código de inicializ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Nuevo punto de entrada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start()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bemos llamar a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()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al fi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dlib: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evitamos enlazar con la lib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o ya no tenemos exit(), debemos definir uno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#define exit(code) \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asm(“int $0x80;”::”a”(1),”b”(code)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zip-drop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gual que el CAB-dropping en Windows. Aprovechamos que gzip está incluido en el sistema base de cualquier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#Tamaño del unpacker: 56 bytes :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a=/tmp/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tail –n+7 $0|zcat&gt;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chmod +x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rm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[ejecutable original “gzippeado”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CC Built-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ersiones in-line optimizadas de funciones habitu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r ejemplo: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sin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cos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memset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jemplo de us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float x = __builtin_sinf(angle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-ffast-math !!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Útiles para los que no dominamos el ASM ;-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ficultades al crear un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Lin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generales a todas las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pciones de compil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ptimizació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1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2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3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veloc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 veces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–O</a:t>
            </a:r>
            <a:r>
              <a:rPr b="0" i="1" lang="es-ES" sz="2400" spc="-1" strike="noStrike">
                <a:solidFill>
                  <a:srgbClr val="eaeaea"/>
                </a:solidFill>
                <a:latin typeface="Courier New"/>
              </a:rPr>
              <a:t>n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genera código más pequeño (o más compresibl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astcalls” con gcc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_attribute__((regparm(n))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Hay una serie de flags que producen resultados poco predecibles al comprimir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eaeaea"/>
                </a:solidFill>
                <a:latin typeface="Verdana"/>
              </a:rPr>
              <a:t>brute-forcing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 “gc masher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bando versiones diferentes de GCC te puedes llevar alguna sorpres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rga de libs dinám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s secciones necesarias en la cabecera ELF para importar funciones de libs dinámicas son demasiado grand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demos usar dlopen() y dlsym() para cargarlas nosotros mismos en tiempo de ejecu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void *handle=dlopen(“libGL.so”, RTLD_NOW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mi_glEnable = dlsym(handle, “glEnable”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D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cluida en la instalación básica de la mayor parte de distribuciones (estándar de fac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s permite crear intros portables con un poco de cuida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2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bjetivo: reducir el número de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import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y llamad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hacer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backface cull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Enable(GL_CULL_FACE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tilizar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GenTextures glGenLists.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stiona tú mismo los 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 coordenadas de textura: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TexGen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sólo usamos una textura, podemos usar el ID 0 sin hacer un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BindTex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no usamos mipmaps solo hay que definir el modo de filtrado para GL_MIN_FIL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utilizar cada efecto todo lo que se pueda (si puedes usar solo uno mej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hacer casts (si no es necesari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sar inline para las funciones que sólo se llaman una ve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 veces puede interesar reemplazar parámetros de funciones con variables glob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utilizar variables para todo aquello que sea const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repetir cálculos complejos parec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 conveniente igualar constantes con valores parecidos (mejora la compres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Links interesantes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Código Etram: 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collapse.scenesp.org/shash/clp_etram_src.ra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Código 4ks en linux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slack.codemaniacs.com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omepage de Fit (más fuentes de 4k en linux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4k intro kit: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northerndragons.ca/mod.php?mod=userpage&amp;menu=2227&amp;page_id=76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ugi Coding Edition:</a:t>
            </a: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hugi.scene.org/main.php?page=hugise01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852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ecff"/>
                </a:solidFill>
                <a:latin typeface="Arial"/>
              </a:rPr>
              <a:t>Preguntas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26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ablad ahora, o callad para siempre !!!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(o buscadnos en #demoscene en irc-hispan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no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tros 100% ensamblad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o programar intros desde ce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reación de sintetizadores o simila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rect3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s muchas cosa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ficultades al crear un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herramientas comerciales adecuad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soluciones direc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ecesitamos crear todos los contenidos pensando en la limitación de 4 k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Contenidos orientados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podemos tratar los datos como en una de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ualquier contenido no generado, ocuparía demasia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dos palabras: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GENERAR TO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ráficos 2D/3D, música, hasta sincro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Programación orientada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ar ensamblad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ás control sobre el códig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enos productiv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ifícil de optimizar glob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anar a un compilador es difíc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écnicas específicas de Windo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Inicialización de l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Bucle princip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o del visualC para ejecutables pequeñ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9200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y registrar una cl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nuestra vent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el thread de son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para intros de 4k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la ventana usando una clase ya exist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todo el sonido durante el lo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9:00Z</dcterms:created>
  <dc:creator>shash_prt</dc:creator>
  <dc:description/>
  <dc:language>en-US</dc:language>
  <cp:lastModifiedBy>shash_prt</cp:lastModifiedBy>
  <dcterms:modified xsi:type="dcterms:W3CDTF">2005-11-07T18:20:17Z</dcterms:modified>
  <cp:revision>8</cp:revision>
  <dc:subject/>
  <dc:title>Creación de intros 4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96765827</vt:r8>
  </property>
</Properties>
</file>